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6B9-90B6-45E7-91A0-C0867461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7D7-CFED-4323-B7C2-5CD2E49C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DC2-BAE7-4FCF-8196-6F849BCF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94A-848A-47E8-8D44-297C0A07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469-B251-4ABE-BF51-067AFD33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DDA-6C9A-4397-B515-E716EA4E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EEF-876C-4F40-A76A-9238A758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67D-5AFE-40C1-8EAA-F385DE17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99D-79FB-4051-BF61-C6F2DED3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74F-DA6F-4F2D-8EC9-125E7E1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C5A-3FA9-4975-9D31-E7A6B2DB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CC6-4090-42A4-92C2-74E8E29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80EF-BC4C-4BAC-8DB0-4F7AB0CE5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The Cherry Orchar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Literary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onika Poplavsk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 the moment when all characters recogn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t time is so fast they feel that buying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osing of family estate is fully un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are to the life which is gone for most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eel of emptiness comes into the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arts, and symbol of their feelings is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mpty hou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role of detail in the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400" y="1428480"/>
            <a:ext cx="8258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ekhov uses detail as an important artist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ool to show up emotions, psychology 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aracters, conflicts etc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short speeches between characters which doesn’t help to open the idea of action but illustrate disconnection between the characters and the world around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und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landsca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urni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uthor remar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peech characteristics of charac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symbols in the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600200"/>
            <a:ext cx="82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ymbol of spiritual absence is felled cherry ga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ymbol of silly lost wealth is a sold e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ymbol of debts is a result of their spending during the whole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e symbol of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The Cherry Orchar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is a destiny of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920" y="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Calibri"/>
              </a:rPr>
              <a:t>The Cherry Orchard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 is a particular place and yet it is more. It represents an inextricable tangle of sentiments, which together  comprise a way of life and an attitude to life. By the persistent feelings shown towards it, at one extreme by old Firs, the house-serf for whom the family is his whole existence , and at another by Trofimov, the intellectual for whom it is the image of repression and slavery; by Lopakhin, the businessman and spokesman for hard economic facts, the one who thinks of it primarily as a means to wiser investment, and by Mme Ranevsky, who sees in it her childhood happiness and her former innocence, who sees it as the embodiment of her best values – by these and many other contradictions, an audience finds that the orchard grows from a painted backcloth to an ambiguous, living, poetic symbol of human life, any human life, in a state of change. (</a:t>
            </a:r>
            <a:r>
              <a:rPr b="0" i="1" lang="en-US" sz="2500" spc="-1" strike="noStrike">
                <a:solidFill>
                  <a:srgbClr val="ffffff"/>
                </a:solidFill>
                <a:latin typeface="Calibri"/>
              </a:rPr>
              <a:t>Critical Essays on Anton Chekhov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ffffff"/>
                </a:solidFill>
                <a:latin typeface="Calibri"/>
              </a:rPr>
              <a:t>The Cherry Orchard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, John L. Stya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Uniqueness of Chekhov pl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4920" y="1196640"/>
            <a:ext cx="8258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hekhov’s plays affected not only Russian literat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but the whole literature process in XX century. Th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ain reason of this affection was Chekhov’s abilit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o see social problems deeply inside, when those just opens u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o write about social-psychological proble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o give central role to “the people of the new formation” who are obviously unnecessary in their commun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o recognize social illnesses of the 20th century such as egoism, disrespect between people, disability to understand each other and absence of love between peop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eople of the new formation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hey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certain spiritual qualiti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sence of life ideals and goal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eap life principl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y unimportant  speeches of real everyday lif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respect to old gen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Genre and peculiarity of th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cene act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400" y="1600200"/>
            <a:ext cx="82580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ost producers prefer to see </a:t>
            </a:r>
            <a:r>
              <a:rPr b="0" i="1" lang="en-US" sz="2700" spc="-1" strike="noStrike">
                <a:solidFill>
                  <a:srgbClr val="ffffff"/>
                </a:solidFill>
                <a:latin typeface="Calibri"/>
              </a:rPr>
              <a:t>The Cher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Calibri"/>
              </a:rPr>
              <a:t>Orchard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as a comedy (even Chekhov wanted 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e his play this way), however satirical part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 play is so wea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Lately </a:t>
            </a:r>
            <a:r>
              <a:rPr b="0" i="1" lang="en-US" sz="2700" spc="-1" strike="noStrike">
                <a:solidFill>
                  <a:srgbClr val="ffffff"/>
                </a:solidFill>
                <a:latin typeface="Calibri"/>
              </a:rPr>
              <a:t>The Cherry Orchard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was known as comedy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rama, lyrical comedy, tragicomedy and traged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Probably it is little difficult to recognize the pla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genre clearl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ll characters go thru the conflict of “given”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ished”– the conflict between everyday being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dea of human purpose in the worl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utside and inside conflic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in the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400" y="1599840"/>
            <a:ext cx="8258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outside conflic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The Cherry Orcha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selling of the family estate for the debts. We can see historical change of the social bases: end of cherry gardens period with beauty memories of a previous life. The owners are so unpractical and passive, they feel that their time has been left. The “Lopakhin period” is coming. He is a new owner and it makes him so happy and satisfied of himself because of his father use to be a former peasant in this farm. It looks as a historical justice for the new generation of estate ow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85480" y="0"/>
            <a:ext cx="8372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pakhin is a very pragmatic businessman. 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first act he offers a deal to save the imperi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state. This offer became as a way to anoth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fe of usefulness, not beauty at all. It is why 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wners see this offer so silly and senseless. 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aracters doesn’t understand each other, 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oks like they speak different languag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ekhov shows up resistance of different li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ositions, but not a fight of characters. The m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nal part of the outside conflict is selling of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amily estate on the auction. The hope is gone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body can not change anything, however in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eing of characters is no changes at all.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d of outside conflict is optimistic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ain action has been moved on the side by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e inside conflic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 The sale of family estate became an unnecessary event compare to the nonstop circle of life. Chekhov puts everyday going life and time moving in the c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outside conflict is closely related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side conflict and this is the most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ilosophical  conflict of the pl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time moving in the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ekhov is clearly concretizes the time in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ction is taking place from May to Octo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rain comes 2 hours l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nevsky left 5 years ago, her husband died 6 years ago and month later died her 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years old 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356760"/>
            <a:ext cx="8158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st characters in the play stays in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dition when they don’t recognize if it is re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fe of just a dream. Their world is a time of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reams without any relationship to real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triumph of new owner Lopakhin shows up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lly wish of humans to stop the time and put 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the frames like “here and now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owever characters of the play are tenants 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fferent time periods. It is past for Gaev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nevsky, future for Anya and Trofimov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esent for Lopakh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42:59Z</dcterms:created>
  <dc:creator>Veronika</dc:creator>
  <dc:description/>
  <dc:language>en-US</dc:language>
  <cp:lastModifiedBy> </cp:lastModifiedBy>
  <dcterms:modified xsi:type="dcterms:W3CDTF">2008-04-28T21:53:44Z</dcterms:modified>
  <cp:revision>54</cp:revision>
  <dc:subject/>
  <dc:title>The Cherry Orchard</dc:title>
</cp:coreProperties>
</file>